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45FB-30CE-459A-A1D9-6741983B2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E6B3-A82F-4125-ADD2-86D40749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5978-7EEA-429D-ABE6-EBCECE6D9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10B0-AACC-4BD2-9570-A35ACEDE2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FF63-9B12-4013-A265-2AE38EF5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8F09-CE07-43B9-A734-82E0622F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FB1D-54F2-4014-8D30-34204A81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6E8B-3A91-4BDF-88F4-2F821E74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580E-3B44-4B22-AB01-A6C6D3B2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47ED-BF26-4613-A796-374751BF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2D8F-9921-4046-AA6C-CE83F8CB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DAC8-8F6A-45EB-9520-03DD5BEF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1CE3-7258-4A10-864E-B3CBBE75E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ebraic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denomin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2054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43280" y="20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692360" y="1755720"/>
                <a:ext cx="115092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771640" y="3017880"/>
                <a:ext cx="14097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881440" y="3986280"/>
                <a:ext cx="11286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887560" y="4915080"/>
                <a:ext cx="10843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6318360" y="1803240"/>
                <a:ext cx="11332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8960" y="3112920"/>
                <a:ext cx="140976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7448400" y="4081320"/>
                <a:ext cx="11289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7454880" y="5010120"/>
                <a:ext cx="10843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468360" y="3100320"/>
            <a:ext cx="100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64000" y="3100320"/>
            <a:ext cx="100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L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denomin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2054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00720" y="2060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796000" y="1816200"/>
                <a:ext cx="187164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b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6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6697800" y="3017880"/>
                <a:ext cx="17618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6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665760" y="3986280"/>
                <a:ext cx="17640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t xml:space="preserve">6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419200" y="3021120"/>
                <a:ext cx="15242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513160" y="3976560"/>
                <a:ext cx="14824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654200" y="1844640"/>
                <a:ext cx="1333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7013520" y="4915080"/>
                <a:ext cx="103680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t xml:space="preserve">6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800440" y="4865760"/>
                <a:ext cx="9176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468360" y="3100320"/>
            <a:ext cx="100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2x</a:t>
            </a:r>
            <a:r>
              <a:rPr b="0" lang="en-US" sz="1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32360" y="3100320"/>
            <a:ext cx="100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6a</a:t>
            </a:r>
            <a:r>
              <a:rPr b="0" lang="en-US" sz="1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en-US" sz="1800" spc="-1" strike="noStrike" baseline="30000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denomin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9640" y="2054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00720" y="2060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832360" y="1862280"/>
                <a:ext cx="16923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762520" y="3016080"/>
                <a:ext cx="31244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2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−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6227640" y="4100400"/>
                <a:ext cx="199872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835280" y="2998800"/>
                <a:ext cx="213336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−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124000" y="4098960"/>
                <a:ext cx="145908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611360" y="1900080"/>
                <a:ext cx="130500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588000" y="5035680"/>
                <a:ext cx="14842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340000" y="5035680"/>
                <a:ext cx="93960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468360" y="3100320"/>
            <a:ext cx="100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x(x+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43280" y="3100320"/>
            <a:ext cx="1295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x+1)(x-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9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single f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9640" y="2054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43280" y="20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743120" y="1752480"/>
                <a:ext cx="102852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841480" y="3041640"/>
                <a:ext cx="12700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940120" y="4010040"/>
                <a:ext cx="1011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946240" y="4937040"/>
                <a:ext cx="9669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6243480" y="1882800"/>
                <a:ext cx="120816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7221600" y="3112920"/>
                <a:ext cx="164448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354800" y="4081320"/>
                <a:ext cx="13176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n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m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7361280" y="5010120"/>
                <a:ext cx="12715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n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m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468360" y="3100320"/>
            <a:ext cx="100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64000" y="3100320"/>
            <a:ext cx="100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L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single f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9640" y="2054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00720" y="2060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892840" y="1781280"/>
                <a:ext cx="17035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b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732720" y="3041640"/>
                <a:ext cx="16920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b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6700680" y="4010040"/>
                <a:ext cx="16941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b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560680" y="3021120"/>
                <a:ext cx="124128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641680" y="3976560"/>
                <a:ext cx="12240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654200" y="1798560"/>
                <a:ext cx="140508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7059600" y="4937040"/>
                <a:ext cx="9428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800440" y="4865760"/>
                <a:ext cx="9176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468360" y="3100320"/>
            <a:ext cx="100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8x</a:t>
            </a:r>
            <a:r>
              <a:rPr b="0" lang="en-US" sz="1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32360" y="3100320"/>
            <a:ext cx="100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5a</a:t>
            </a:r>
            <a:r>
              <a:rPr b="0" lang="en-US" sz="18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single f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2054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00720" y="2060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832360" y="1806480"/>
                <a:ext cx="183528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716440" y="3016080"/>
                <a:ext cx="32180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−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203880" y="4100400"/>
                <a:ext cx="204624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800360" y="2998800"/>
                <a:ext cx="22032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  <m:r>
                      <m:t xml:space="preserve">−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112840" y="4075200"/>
                <a:ext cx="14814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1601640" y="1820880"/>
                <a:ext cx="145764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6566040" y="5035680"/>
                <a:ext cx="153036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139840" y="5011560"/>
                <a:ext cx="1339920" cy="81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468360" y="3100320"/>
            <a:ext cx="100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x(x-3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43280" y="3100320"/>
            <a:ext cx="1295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x-4)(x-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9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8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ctions and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6291360" y="1341360"/>
                <a:ext cx="144936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157480" y="1522440"/>
                <a:ext cx="12621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250920" y="2492280"/>
            <a:ext cx="100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955880" y="2679840"/>
                <a:ext cx="16574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114640" y="3627360"/>
                <a:ext cx="120024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340000" y="4275000"/>
                <a:ext cx="74124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405160" y="4836960"/>
                <a:ext cx="65412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4643280" y="2276640"/>
            <a:ext cx="100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2x-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335640" y="2479680"/>
                <a:ext cx="14875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372360" y="3236760"/>
                <a:ext cx="1218960" cy="3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6443640" y="3879720"/>
                <a:ext cx="804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504120" y="4365720"/>
                <a:ext cx="7318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ctions and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964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6207120" y="1327320"/>
                <a:ext cx="167796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841400" y="1459080"/>
                <a:ext cx="215424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250920" y="2492280"/>
            <a:ext cx="100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1573200" y="2565360"/>
                <a:ext cx="24210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623960" y="3500280"/>
                <a:ext cx="21812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779480" y="4149720"/>
                <a:ext cx="191952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962000" y="4776840"/>
                <a:ext cx="141768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062080" y="5373720"/>
                <a:ext cx="102564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4643280" y="2276640"/>
            <a:ext cx="100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6275520" y="2492280"/>
                <a:ext cx="16095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6243480" y="3213000"/>
                <a:ext cx="20005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6170760" y="4022640"/>
                <a:ext cx="20732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6068880" y="4675320"/>
                <a:ext cx="246384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4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4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4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8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4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the following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964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6340320" y="1344600"/>
                <a:ext cx="13273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146320" y="1442880"/>
                <a:ext cx="14176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250920" y="2492280"/>
            <a:ext cx="100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978200" y="2679840"/>
                <a:ext cx="16142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2157480" y="3627360"/>
                <a:ext cx="11127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319480" y="4275000"/>
                <a:ext cx="7840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360520" y="5022720"/>
                <a:ext cx="74304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4643280" y="2276640"/>
            <a:ext cx="100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2-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6383160" y="2479680"/>
                <a:ext cx="13906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384960" y="3236760"/>
                <a:ext cx="1193760" cy="3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6432480" y="3879720"/>
                <a:ext cx="828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504120" y="4365720"/>
                <a:ext cx="7318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the following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964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1492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280200" y="1352520"/>
                <a:ext cx="14605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1832040" y="1492200"/>
                <a:ext cx="20923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250920" y="2492280"/>
            <a:ext cx="100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1455840" y="2565360"/>
                <a:ext cx="26589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547640" y="3500280"/>
                <a:ext cx="233388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604880" y="4202280"/>
                <a:ext cx="226872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995480" y="4776840"/>
                <a:ext cx="135252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2203560" y="5418000"/>
                <a:ext cx="74268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4643280" y="2276640"/>
            <a:ext cx="100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2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6116760" y="2406600"/>
                <a:ext cx="19270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6485040" y="3325680"/>
                <a:ext cx="13413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6327720" y="4076640"/>
                <a:ext cx="17575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6432480" y="4815000"/>
                <a:ext cx="14875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6114960" y="5519880"/>
                <a:ext cx="222084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201680" y="1989000"/>
                <a:ext cx="120960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×</m:t>
                        </m:r>
                        <m:r>
                          <m:t xml:space="preserve">a</m:t>
                        </m:r>
                        <m:r>
                          <m:t xml:space="preserve">×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×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971640" y="3213000"/>
                <a:ext cx="236196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940360" y="1989000"/>
                <a:ext cx="129564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937120" y="3357720"/>
                <a:ext cx="180360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187280" y="4437000"/>
                <a:ext cx="168768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" name=""/>
          <p:cNvGrpSpPr/>
          <p:nvPr/>
        </p:nvGrpSpPr>
        <p:grpSpPr>
          <a:xfrm>
            <a:off x="1908000" y="5661000"/>
            <a:ext cx="5256360" cy="863640"/>
            <a:chOff x="1908000" y="5661000"/>
            <a:chExt cx="5256360" cy="863640"/>
          </a:xfrm>
        </p:grpSpPr>
        <p:grpSp>
          <p:nvGrpSpPr>
            <p:cNvPr id="49" name=""/>
            <p:cNvGrpSpPr/>
            <p:nvPr/>
          </p:nvGrpSpPr>
          <p:grpSpPr>
            <a:xfrm>
              <a:off x="1908000" y="5661000"/>
              <a:ext cx="935280" cy="720720"/>
              <a:chOff x="1908000" y="5661000"/>
              <a:chExt cx="935280" cy="720720"/>
            </a:xfrm>
          </p:grpSpPr>
          <p:sp>
            <p:nvSpPr>
              <p:cNvPr id="50" name=""/>
              <p:cNvSpPr/>
              <p:nvPr/>
            </p:nvSpPr>
            <p:spPr>
              <a:xfrm>
                <a:off x="1908000" y="6165720"/>
                <a:ext cx="142920" cy="216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V="1">
                <a:off x="2050920" y="5661000"/>
                <a:ext cx="792360" cy="720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443640" y="5805360"/>
              <a:ext cx="720720" cy="719280"/>
              <a:chOff x="6443640" y="5805360"/>
              <a:chExt cx="720720" cy="719280"/>
            </a:xfrm>
          </p:grpSpPr>
          <p:sp>
            <p:nvSpPr>
              <p:cNvPr id="53" name=""/>
              <p:cNvSpPr/>
              <p:nvPr/>
            </p:nvSpPr>
            <p:spPr>
              <a:xfrm flipV="1">
                <a:off x="6443640" y="5805360"/>
                <a:ext cx="720720" cy="719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443640" y="5805360"/>
                <a:ext cx="720720" cy="719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" name=""/>
          <p:cNvGrpSpPr/>
          <p:nvPr/>
        </p:nvGrpSpPr>
        <p:grpSpPr>
          <a:xfrm>
            <a:off x="1405080" y="4508640"/>
            <a:ext cx="934920" cy="791640"/>
            <a:chOff x="1405080" y="4508640"/>
            <a:chExt cx="934920" cy="791640"/>
          </a:xfrm>
        </p:grpSpPr>
        <p:sp>
          <p:nvSpPr>
            <p:cNvPr id="56" name=""/>
            <p:cNvSpPr/>
            <p:nvPr/>
          </p:nvSpPr>
          <p:spPr>
            <a:xfrm flipV="1">
              <a:off x="1619280" y="4508640"/>
              <a:ext cx="287280" cy="288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2052720" y="4508640"/>
              <a:ext cx="287280" cy="288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1405080" y="5011200"/>
              <a:ext cx="287280" cy="2890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1836720" y="5011200"/>
              <a:ext cx="287280" cy="2890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5832360" y="4653000"/>
            <a:ext cx="2340000" cy="873000"/>
            <a:chOff x="5832360" y="4653000"/>
            <a:chExt cx="2340000" cy="873000"/>
          </a:xfrm>
        </p:grpSpPr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5832360" y="4653000"/>
                  <a:ext cx="2340000" cy="87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≠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62" name=""/>
            <p:cNvGrpSpPr/>
            <p:nvPr/>
          </p:nvGrpSpPr>
          <p:grpSpPr>
            <a:xfrm>
              <a:off x="6300720" y="4723920"/>
              <a:ext cx="790560" cy="722520"/>
              <a:chOff x="6300720" y="4723920"/>
              <a:chExt cx="790560" cy="722520"/>
            </a:xfrm>
          </p:grpSpPr>
          <p:sp>
            <p:nvSpPr>
              <p:cNvPr id="63" name=""/>
              <p:cNvSpPr/>
              <p:nvPr/>
            </p:nvSpPr>
            <p:spPr>
              <a:xfrm flipV="1">
                <a:off x="6804000" y="4723920"/>
                <a:ext cx="287280" cy="2890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6300720" y="5157360"/>
                <a:ext cx="287280" cy="2890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the following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3964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6291360" y="1360440"/>
                <a:ext cx="1449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1735200" y="1465200"/>
                <a:ext cx="24051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250920" y="2492280"/>
            <a:ext cx="100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359000" y="2565360"/>
                <a:ext cx="28540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1438200" y="3500280"/>
                <a:ext cx="255276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−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506600" y="4179960"/>
                <a:ext cx="246528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071800" y="4754520"/>
                <a:ext cx="11998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266920" y="5300640"/>
                <a:ext cx="7207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>
            <a:off x="4500720" y="2381400"/>
            <a:ext cx="100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en-GB" sz="1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6093000" y="2406600"/>
                <a:ext cx="19764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6424560" y="3325680"/>
                <a:ext cx="14637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6280200" y="4076640"/>
                <a:ext cx="18540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6045120" y="4724280"/>
                <a:ext cx="19782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6012000" y="5445000"/>
                <a:ext cx="22446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9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3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x the subject of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964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g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g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6291360" y="1376280"/>
                <a:ext cx="14493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220840" y="1695600"/>
                <a:ext cx="14320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208240" y="2751120"/>
                <a:ext cx="115560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135160" y="3543480"/>
                <a:ext cx="115740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x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225520" y="4116240"/>
                <a:ext cx="102564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6410160" y="2455920"/>
                <a:ext cx="134172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6630840" y="3463920"/>
                <a:ext cx="104940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6593040" y="4230720"/>
                <a:ext cx="114768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5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x the subject of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964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g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g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6411960" y="1376280"/>
                <a:ext cx="12081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1979640" y="1652760"/>
                <a:ext cx="124308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2124000" y="2604960"/>
                <a:ext cx="100332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2092320" y="3560760"/>
                <a:ext cx="12445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2195640" y="4260960"/>
                <a:ext cx="98244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6386400" y="2625840"/>
                <a:ext cx="13906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6443640" y="3213000"/>
                <a:ext cx="12445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yx</m:t>
                    </m:r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459480" y="3716280"/>
                <a:ext cx="14162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394320" y="4149720"/>
                <a:ext cx="15624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6603840" y="4711680"/>
                <a:ext cx="10987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6588000" y="5589720"/>
                <a:ext cx="109872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64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6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19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x the subject of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964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6291360" y="1417680"/>
                <a:ext cx="14493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260440" y="1695600"/>
                <a:ext cx="13510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2239920" y="2751120"/>
                <a:ext cx="109080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166840" y="3532320"/>
                <a:ext cx="109224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225520" y="4116240"/>
                <a:ext cx="102564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6350040" y="2455920"/>
                <a:ext cx="146376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6594480" y="3427560"/>
                <a:ext cx="112392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6556320" y="4194000"/>
                <a:ext cx="122076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h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x the subject of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964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6386400" y="1417680"/>
                <a:ext cx="125748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+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2138400" y="1641600"/>
                <a:ext cx="159552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2185920" y="2730600"/>
                <a:ext cx="12002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2101680" y="3510000"/>
                <a:ext cx="12225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2171880" y="4094280"/>
                <a:ext cx="11347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6434280" y="2455920"/>
                <a:ext cx="129384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6386400" y="3622680"/>
                <a:ext cx="15400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5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2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9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x the subject of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964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57200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6411960" y="1393920"/>
                <a:ext cx="120816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1967040" y="1652760"/>
                <a:ext cx="126972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2112840" y="2604960"/>
                <a:ext cx="102564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2081160" y="3560760"/>
                <a:ext cx="12668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2185920" y="4260960"/>
                <a:ext cx="10033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6362640" y="2581200"/>
                <a:ext cx="144000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6370560" y="3213000"/>
                <a:ext cx="13906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6472080" y="3830760"/>
                <a:ext cx="139068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6394320" y="4454640"/>
                <a:ext cx="15624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6603840" y="5000760"/>
                <a:ext cx="109872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5" dur="indefinite" restart="never" nodeType="tmRoot">
          <p:childTnLst>
            <p:seq>
              <p:cTn id="1286" dur="indefinite" nodeType="mainSeq">
                <p:childTnLst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7" dur="8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8" dur="8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9" dur="8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4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5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6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2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0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io and Propor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Nut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60948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e Findi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One Method Direct Propor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80880" y="10666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Exa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le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95280" y="14842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it costs 85p for 5 Mars bars, what is the cost of 3 Mars bars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340000" y="2133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04760" y="2708280"/>
            <a:ext cx="230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LWAYS Find the cost of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728800" y="2749680"/>
            <a:ext cx="50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can be easily set out like a tab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743200" y="3343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 Mars b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419720" y="358776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562720" y="335916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5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743200" y="39369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 Mars 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419720" y="418140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562720" y="3952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7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743200" y="4470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 Mars b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419720" y="47149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62720" y="44863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1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76440" y="3697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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465280" y="4192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4" dur="indefinite" restart="never" nodeType="tmRoot">
          <p:childTnLst>
            <p:seq>
              <p:cTn id="1345" dur="indefinite" nodeType="mainSeq">
                <p:childTnLst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6" dur="75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8" dur="75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3" dur="75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3" dur="75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8" dur="75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0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2" dur="75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7" dur="75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2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1" dur="75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7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8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304920" y="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Exa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le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843120" y="4176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9 blank discs cost £27, how much will 8 blank discs co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42800" y="21337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Exa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le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93880" y="255096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Michael can walk 8 km in 2hours, at the same speed how far will he be able to walk in 5hour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66840" y="43434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Exa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le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922320" y="476100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a 300 g bag of chips contains 750 calories, how many calories will be in a 250 g ba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09680" y="8985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9 dis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76720" y="114300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19720" y="9144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£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209680" y="12952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1 Di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76720" y="153972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419720" y="13111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£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209680" y="1676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8 dis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192096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419720" y="169236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Comic Sans MS"/>
              </a:rPr>
              <a:t> 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Comic Sans MS"/>
              </a:rPr>
              <a:t>£24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600200" y="1157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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76520" y="1600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3321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2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962520" y="356544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105520" y="333684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8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895480" y="37180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1 h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962520" y="396252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105520" y="37339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4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895480" y="40989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5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962520" y="434340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105520" y="4114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Comic Sans MS"/>
              </a:rPr>
              <a:t>20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286000" y="35798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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286000" y="40226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505320" y="5438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300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0" y="568332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715000" y="5454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750 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505320" y="58356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1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0" y="608004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715000" y="585144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2.5 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505320" y="6216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250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0" y="64612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715000" y="62326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Comic Sans MS"/>
              </a:rPr>
              <a:t>625 cal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819520" y="5697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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819520" y="61405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1" dur="indefinite" restart="never" nodeType="tmRoot">
          <p:childTnLst>
            <p:seq>
              <p:cTn id="1452" dur="indefinite" nodeType="mainSeq">
                <p:childTnLst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7" dur="75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6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7" dur="75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2" dur="75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fill="hold">
                            <p:stCondLst>
                              <p:cond delay="375"/>
                            </p:stCondLst>
                            <p:childTnLst>
                              <p:par>
                                <p:cTn id="14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5" dur="75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0" dur="75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450"/>
                            </p:stCondLst>
                            <p:childTnLst>
                              <p:par>
                                <p:cTn id="1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3" dur="75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8" dur="75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1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8" dur="75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3" dur="75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375"/>
                            </p:stCondLst>
                            <p:childTnLst>
                              <p:par>
                                <p:cTn id="15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6" dur="75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1" dur="75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450"/>
                            </p:stCondLst>
                            <p:childTnLst>
                              <p:par>
                                <p:cTn id="15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4" dur="75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9" dur="75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6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9" dur="75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4" dur="75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150"/>
                            </p:stCondLst>
                            <p:childTnLst>
                              <p:par>
                                <p:cTn id="15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7" dur="75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2" dur="75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300"/>
                            </p:stCondLst>
                            <p:childTnLst>
                              <p:par>
                                <p:cTn id="15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0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5" dur="75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380880" y="10666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a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e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4842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it takes 2 men 6 days to build a drive way, how long should it take 3 me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87440" y="2468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04760" y="3127320"/>
            <a:ext cx="230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ALWAYS Find the value of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967120" y="3186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2 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033800" y="343044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176800" y="32018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6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967120" y="3583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1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33800" y="382752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176800" y="3598920"/>
            <a:ext cx="151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12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967120" y="39639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3 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033800" y="4208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176800" y="3979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4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612880" y="342108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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660760" y="3870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19640" y="34653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091200" y="3881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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0948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e Findi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One Method Inverse Propor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6" dur="indefinite" restart="never" nodeType="tmRoot">
          <p:childTnLst>
            <p:seq>
              <p:cTn id="1607" dur="indefinite" nodeType="mainSeq">
                <p:childTnLst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2" dur="75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7" dur="75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4" dur="75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4" dur="75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9" dur="75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300"/>
                            </p:stCondLst>
                            <p:childTnLst>
                              <p:par>
                                <p:cTn id="16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5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fill="hold">
                            <p:stCondLst>
                              <p:cond delay="500"/>
                            </p:stCondLst>
                            <p:childTnLst>
                              <p:par>
                                <p:cTn id="16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5" dur="75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0" dur="75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300"/>
                            </p:stCondLst>
                            <p:childTnLst>
                              <p:par>
                                <p:cTn id="16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500"/>
                            </p:stCondLst>
                            <p:childTnLst>
                              <p:par>
                                <p:cTn id="16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6" dur="75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f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2054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3280" y="20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757520" y="1920960"/>
                <a:ext cx="9428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210360" y="1989000"/>
                <a:ext cx="131436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665360" y="3038400"/>
                <a:ext cx="9874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abbb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aaa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862280" y="3903840"/>
                <a:ext cx="54108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010200" y="2997360"/>
                <a:ext cx="148284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6485040" y="3903840"/>
                <a:ext cx="6825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4" name=""/>
          <p:cNvGrpSpPr/>
          <p:nvPr/>
        </p:nvGrpSpPr>
        <p:grpSpPr>
          <a:xfrm>
            <a:off x="1908000" y="3212640"/>
            <a:ext cx="238320" cy="465480"/>
            <a:chOff x="1908000" y="3212640"/>
            <a:chExt cx="238320" cy="465480"/>
          </a:xfrm>
        </p:grpSpPr>
        <p:sp>
          <p:nvSpPr>
            <p:cNvPr id="75" name=""/>
            <p:cNvSpPr/>
            <p:nvPr/>
          </p:nvSpPr>
          <p:spPr>
            <a:xfrm flipV="1">
              <a:off x="2050920" y="3212640"/>
              <a:ext cx="73080" cy="716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1908000" y="3212640"/>
              <a:ext cx="73080" cy="716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2073240" y="3606840"/>
              <a:ext cx="73080" cy="71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1920960" y="3606840"/>
              <a:ext cx="72720" cy="71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2352600" y="3212640"/>
            <a:ext cx="73080" cy="457560"/>
            <a:chOff x="2352600" y="3212640"/>
            <a:chExt cx="73080" cy="457560"/>
          </a:xfrm>
        </p:grpSpPr>
        <p:sp>
          <p:nvSpPr>
            <p:cNvPr id="80" name=""/>
            <p:cNvSpPr/>
            <p:nvPr/>
          </p:nvSpPr>
          <p:spPr>
            <a:xfrm flipV="1">
              <a:off x="2352600" y="3212640"/>
              <a:ext cx="73080" cy="716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352600" y="3598920"/>
              <a:ext cx="73080" cy="71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6443640" y="3069720"/>
            <a:ext cx="1081080" cy="646560"/>
            <a:chOff x="6443640" y="3069720"/>
            <a:chExt cx="1081080" cy="646560"/>
          </a:xfrm>
        </p:grpSpPr>
        <p:sp>
          <p:nvSpPr>
            <p:cNvPr id="83" name=""/>
            <p:cNvSpPr/>
            <p:nvPr/>
          </p:nvSpPr>
          <p:spPr>
            <a:xfrm flipV="1">
              <a:off x="6732720" y="3069720"/>
              <a:ext cx="792000" cy="2876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443640" y="3429000"/>
              <a:ext cx="792360" cy="28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4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304920" y="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Exa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le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18960" y="4176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5men take 12 hrs to fix a road, how long should it take 6 m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42800" y="21337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Exa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le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" y="255096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farmer has enough feed to feed 64 cows for 3 days. How long will the same food last 24 cow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66840" y="43434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Exa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le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80880" y="476100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journey takes 2hrs travelling at 60 km/h, how long would the journey take travelling at 40 km/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209680" y="8985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5 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276720" y="114300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419720" y="9144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12 h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209680" y="12952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1 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276720" y="153972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19720" y="13111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60 h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209680" y="1676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6 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76720" y="192096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419720" y="169236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Comic Sans MS"/>
              </a:rPr>
              <a:t> 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Comic Sans MS"/>
              </a:rPr>
              <a:t>10 h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839960" y="1098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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798560" y="1565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895480" y="3321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64 c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962520" y="356544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105520" y="333684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3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895480" y="37180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1 c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962520" y="396252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105520" y="3733920"/>
            <a:ext cx="148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192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895480" y="40989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24 c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62520" y="434340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105520" y="4114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Comic Sans MS"/>
              </a:rPr>
              <a:t>8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286000" y="35798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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0" y="40226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365640" y="543888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60 km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572000" y="568332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715000" y="5454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2 h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365640" y="5835600"/>
            <a:ext cx="131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1 km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572000" y="608004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715000" y="585144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120 h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365640" y="6216480"/>
            <a:ext cx="133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40 km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0" y="64612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715000" y="62326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Comic Sans MS"/>
              </a:rPr>
              <a:t>3 h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889360" y="5697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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854440" y="6122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257800" y="1143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334120" y="159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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878440" y="3557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948280" y="39974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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553080" y="61149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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553080" y="56228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3" dur="indefinite" restart="never" nodeType="tmRoot">
          <p:childTnLst>
            <p:seq>
              <p:cTn id="1694" dur="indefinite" nodeType="mainSeq">
                <p:childTnLst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9" dur="75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9" dur="75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4" dur="75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5" fill="hold">
                            <p:stCondLst>
                              <p:cond delay="300"/>
                            </p:stCondLst>
                            <p:childTnLst>
                              <p:par>
                                <p:cTn id="17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500"/>
                            </p:stCondLst>
                            <p:childTnLst>
                              <p:par>
                                <p:cTn id="17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0" dur="75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5" dur="75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300"/>
                            </p:stCondLst>
                            <p:childTnLst>
                              <p:par>
                                <p:cTn id="17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4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4" fill="hold">
                            <p:stCondLst>
                              <p:cond delay="500"/>
                            </p:stCondLst>
                            <p:childTnLst>
                              <p:par>
                                <p:cTn id="17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1" dur="75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6" dur="75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6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6" dur="75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1" dur="75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300"/>
                            </p:stCondLst>
                            <p:childTnLst>
                              <p:par>
                                <p:cTn id="17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0" fill="hold">
                            <p:stCondLst>
                              <p:cond delay="500"/>
                            </p:stCondLst>
                            <p:childTnLst>
                              <p:par>
                                <p:cTn id="17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7" dur="75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2" dur="75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450"/>
                            </p:stCondLst>
                            <p:childTnLst>
                              <p:par>
                                <p:cTn id="17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1" fill="hold">
                            <p:stCondLst>
                              <p:cond delay="500"/>
                            </p:stCondLst>
                            <p:childTnLst>
                              <p:par>
                                <p:cTn id="18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8" dur="75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3" dur="75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fill="hold">
                      <p:stCondLst>
                        <p:cond delay="indefinite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1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3" dur="75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8" dur="75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9" fill="hold">
                            <p:stCondLst>
                              <p:cond delay="375"/>
                            </p:stCondLst>
                            <p:childTnLst>
                              <p:par>
                                <p:cTn id="18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fill="hold">
                      <p:stCondLst>
                        <p:cond delay="indefinite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3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7" fill="hold">
                            <p:stCondLst>
                              <p:cond delay="500"/>
                            </p:stCondLst>
                            <p:childTnLst>
                              <p:par>
                                <p:cTn id="18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4" dur="75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9" dur="75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0" fill="hold">
                            <p:stCondLst>
                              <p:cond delay="450"/>
                            </p:stCondLst>
                            <p:childTnLst>
                              <p:par>
                                <p:cTn id="18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8" fill="hold">
                            <p:stCondLst>
                              <p:cond delay="500"/>
                            </p:stCondLst>
                            <p:childTnLst>
                              <p:par>
                                <p:cTn id="18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5" dur="75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971640" y="1628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 propo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92720" y="1628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rse propo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1332000" y="249192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332000" y="4076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1332000" y="2781360"/>
            <a:ext cx="9363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98560" y="2349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059280" y="40705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5651640" y="2420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651640" y="4005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796000" y="2492280"/>
            <a:ext cx="1584360" cy="1297080"/>
          </a:xfrm>
          <a:custGeom>
            <a:avLst/>
            <a:gdLst/>
            <a:ahLst/>
            <a:rect l="l" t="t" r="r" b="b"/>
            <a:pathLst>
              <a:path w="998" h="817">
                <a:moveTo>
                  <a:pt x="0" y="0"/>
                </a:moveTo>
                <a:cubicBezTo>
                  <a:pt x="8" y="249"/>
                  <a:pt x="16" y="499"/>
                  <a:pt x="182" y="635"/>
                </a:cubicBezTo>
                <a:cubicBezTo>
                  <a:pt x="348" y="771"/>
                  <a:pt x="673" y="794"/>
                  <a:pt x="998" y="81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221440" y="2276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451640" y="4076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762200" y="4653000"/>
            <a:ext cx="10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54560" y="4653000"/>
            <a:ext cx="144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114560" y="543888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varies directly as n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722920" y="5445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varies inversely as m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ed examples – Direct Propor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95280" y="1125360"/>
            <a:ext cx="37450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, W varies directly 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, t. Given that W = 2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formula f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W when t = 7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788000" y="1125360"/>
            <a:ext cx="4176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, E varies directly 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quare of velocity, v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that E = 7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v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formula for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E when v = 4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643280" y="1628640"/>
            <a:ext cx="0" cy="522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835280" y="3141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836720" y="3500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 = k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900000" y="393372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ub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20 = 4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981080" y="43578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908000" y="4797360"/>
            <a:ext cx="1079640" cy="3682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W = 5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692360" y="551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 = 5 x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692360" y="59421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W = 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445080" y="2924280"/>
            <a:ext cx="15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v</a:t>
            </a:r>
            <a:r>
              <a:rPr b="0" lang="en-US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445080" y="3284640"/>
            <a:ext cx="15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 = k v</a:t>
            </a:r>
            <a:r>
              <a:rPr b="0" lang="en-US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435640" y="364500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ub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72 = 3</a:t>
            </a:r>
            <a:r>
              <a:rPr b="0" lang="en-US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372360" y="4005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72 = 9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516720" y="43578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 =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445080" y="4791240"/>
            <a:ext cx="1151280" cy="3682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E = 8 v</a:t>
            </a:r>
            <a:r>
              <a:rPr b="0" lang="en-US" sz="18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300720" y="5445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 = 8 x 4</a:t>
            </a:r>
            <a:r>
              <a:rPr b="0" lang="en-US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300720" y="57992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 = 8 x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300720" y="61578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E = 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6" dur="indefinite" restart="never" nodeType="tmRoot">
          <p:childTnLst>
            <p:seq>
              <p:cTn id="1867" dur="indefinite" nodeType="mainSeq">
                <p:childTnLst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2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7" dur="15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15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8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9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5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6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7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6" dur="5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5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2" dur="8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3" dur="8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8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8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2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3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4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4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0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7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8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fill="hold">
                      <p:stCondLst>
                        <p:cond delay="indefinite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6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3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ed examples – Direct Propor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95280" y="1125360"/>
            <a:ext cx="37450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, C varies directly 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, A. Given tha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= 3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formula for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C when A = 9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788000" y="1125360"/>
            <a:ext cx="4176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, P varies directly 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quare of current, 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that P = 100 when I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formula for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P when I = 3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643280" y="1628640"/>
            <a:ext cx="0" cy="522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835280" y="3141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836720" y="3500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 = k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900000" y="393372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ub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5 = 5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81080" y="43578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 =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08000" y="4797360"/>
            <a:ext cx="1079640" cy="3682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C = 7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692360" y="551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 = 7 x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692360" y="59421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C = 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445080" y="2924280"/>
            <a:ext cx="15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I</a:t>
            </a:r>
            <a:r>
              <a:rPr b="0" lang="en-US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445080" y="3284640"/>
            <a:ext cx="15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 = k I</a:t>
            </a:r>
            <a:r>
              <a:rPr b="0" lang="en-US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435640" y="364500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ub          100 = 5</a:t>
            </a:r>
            <a:r>
              <a:rPr b="0" lang="en-US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372360" y="4005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00 = 25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516720" y="43578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445080" y="4791240"/>
            <a:ext cx="1151280" cy="3682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 = 4 I</a:t>
            </a:r>
            <a:r>
              <a:rPr b="0" lang="en-US" sz="18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300720" y="5373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 = 4 x 3</a:t>
            </a:r>
            <a:r>
              <a:rPr b="0" lang="en-US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300720" y="57340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 = 4 x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300720" y="6093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P =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4" dur="indefinite" restart="never" nodeType="tmRoot">
          <p:childTnLst>
            <p:seq>
              <p:cTn id="1975" dur="indefinite" nodeType="mainSeq">
                <p:childTnLst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1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3" fill="hold">
                      <p:stCondLst>
                        <p:cond delay="indefinite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7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9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fill="hold">
                      <p:stCondLst>
                        <p:cond delay="indefinite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4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5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9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8" fill="hold">
                      <p:stCondLst>
                        <p:cond delay="indefinite"/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1" dur="15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15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4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9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0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1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50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055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60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fill="hold">
                      <p:stCondLst>
                        <p:cond delay="indefinite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3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4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5" dur="9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ed examples – Direct Propor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95280" y="1125360"/>
            <a:ext cx="37450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, C varies directly 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, n. Given tha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= 3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n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formula for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C when n = 7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788000" y="1125360"/>
            <a:ext cx="4176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varies directly as the square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of h, Given that d = 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h =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formula for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D when h = 49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3280" y="1628640"/>
            <a:ext cx="0" cy="522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835280" y="3141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836720" y="3500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 = k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900000" y="393372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ub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6 = 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981080" y="43578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 =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908000" y="4797360"/>
            <a:ext cx="1151280" cy="3682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C = 12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692360" y="551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 = 12 x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692360" y="59421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C = 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445080" y="2924280"/>
            <a:ext cx="15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445080" y="3284640"/>
            <a:ext cx="15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 = k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435640" y="364500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ub          30 =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9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372360" y="4005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0 = 3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516720" y="43578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445080" y="4791240"/>
            <a:ext cx="1366920" cy="3682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D = 10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300720" y="5373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 = 10 x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300720" y="57340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 = 10 x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300720" y="6093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D =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7" dur="indefinite" restart="never" nodeType="tmRoot">
          <p:childTnLst>
            <p:seq>
              <p:cTn id="2078" dur="indefinite" nodeType="mainSeq">
                <p:childTnLst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9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9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5" fill="hold">
                      <p:stCondLst>
                        <p:cond delay="indefinite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9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0" fill="hold">
                      <p:stCondLst>
                        <p:cond delay="indefinite"/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6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5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6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2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3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9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0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9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8" fill="hold">
                      <p:stCondLst>
                        <p:cond delay="indefinite"/>
                      </p:stCondLst>
                      <p:childTnLst>
                        <p:par>
                          <p:cTn id="2139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44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9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0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1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fill="hold">
                      <p:stCondLst>
                        <p:cond delay="indefinite"/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4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6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6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8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ed examples – Inverse Propor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95280" y="836640"/>
            <a:ext cx="37450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g 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e, T varies indirectly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 the number, n. Give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at T = 40 when n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nd a formula for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nd T when n = 1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788000" y="836640"/>
            <a:ext cx="41767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g 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 varies inversely as th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quare root of r, Given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 = 5 when r =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nd a formula for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nd D when r = 4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643280" y="1628640"/>
            <a:ext cx="0" cy="522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835280" y="2852640"/>
            <a:ext cx="151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 baseline="30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836720" y="3319560"/>
            <a:ext cx="151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T = </a:t>
            </a:r>
            <a:r>
              <a:rPr b="0" lang="en-GB" sz="2000" spc="-1" strike="noStrike" baseline="30000">
                <a:solidFill>
                  <a:srgbClr val="333399"/>
                </a:solidFill>
                <a:latin typeface="Arial"/>
              </a:rPr>
              <a:t>k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GB" sz="2000" spc="-1" strike="noStrike" baseline="-25000">
                <a:solidFill>
                  <a:srgbClr val="333399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826920" y="3789360"/>
            <a:ext cx="251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ub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40 = </a:t>
            </a:r>
            <a:r>
              <a:rPr b="0" lang="en-US" sz="2000" spc="-1" strike="noStrike" baseline="30000">
                <a:solidFill>
                  <a:srgbClr val="333399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619280" y="42926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k = 40 x 3 = 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692360" y="4894200"/>
            <a:ext cx="1368360" cy="44064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T = </a:t>
            </a:r>
            <a:r>
              <a:rPr b="0" lang="en-US" sz="2000" spc="-1" strike="noStrike" baseline="30000">
                <a:solidFill>
                  <a:srgbClr val="009900"/>
                </a:solidFill>
                <a:latin typeface="Arial"/>
              </a:rPr>
              <a:t>120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692360" y="5516640"/>
            <a:ext cx="151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 = </a:t>
            </a:r>
            <a:r>
              <a:rPr b="0" lang="en-US" sz="1800" spc="-1" strike="noStrike" baseline="30000">
                <a:solidFill>
                  <a:srgbClr val="333399"/>
                </a:solidFill>
                <a:latin typeface="Arial"/>
              </a:rPr>
              <a:t>120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692360" y="59421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T =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445080" y="2744640"/>
            <a:ext cx="151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 baseline="30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445080" y="3213000"/>
            <a:ext cx="151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D = </a:t>
            </a:r>
            <a:r>
              <a:rPr b="0" lang="en-GB" sz="2000" spc="-1" strike="noStrike" baseline="30000">
                <a:solidFill>
                  <a:srgbClr val="333399"/>
                </a:solidFill>
                <a:latin typeface="Arial"/>
              </a:rPr>
              <a:t>k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GB" sz="20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 baseline="-25000">
                <a:solidFill>
                  <a:srgbClr val="333399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292720" y="3608280"/>
            <a:ext cx="2303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ub          5 = </a:t>
            </a:r>
            <a:r>
              <a:rPr b="0" lang="en-US" sz="2000" spc="-1" strike="noStrike" baseline="30000">
                <a:solidFill>
                  <a:srgbClr val="333399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372360" y="4005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 = 5 x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516720" y="43578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 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445080" y="4791240"/>
            <a:ext cx="1366920" cy="44064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D = </a:t>
            </a:r>
            <a:r>
              <a:rPr b="0" lang="en-US" sz="2000" spc="-1" strike="noStrike" baseline="30000">
                <a:solidFill>
                  <a:srgbClr val="009900"/>
                </a:solidFill>
                <a:latin typeface="Arial"/>
              </a:rPr>
              <a:t>20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443640" y="5300640"/>
            <a:ext cx="151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 = </a:t>
            </a:r>
            <a:r>
              <a:rPr b="0" lang="en-US" sz="2000" spc="-1" strike="noStrike" baseline="30000">
                <a:solidFill>
                  <a:srgbClr val="333399"/>
                </a:solidFill>
                <a:latin typeface="Arial"/>
              </a:rPr>
              <a:t>20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5080" y="5734080"/>
            <a:ext cx="151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 = </a:t>
            </a:r>
            <a:r>
              <a:rPr b="0" lang="en-US" sz="2000" spc="-1" strike="noStrike" baseline="30000">
                <a:solidFill>
                  <a:srgbClr val="333399"/>
                </a:solidFill>
                <a:latin typeface="Arial"/>
              </a:rPr>
              <a:t>20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445080" y="6093000"/>
            <a:ext cx="15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D =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9" dur="indefinite" restart="never" nodeType="tmRoot">
          <p:childTnLst>
            <p:seq>
              <p:cTn id="2180" dur="indefinite" nodeType="mainSeq">
                <p:childTnLst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5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6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7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8" fill="hold">
                      <p:stCondLst>
                        <p:cond delay="indefinite"/>
                      </p:stCondLst>
                      <p:childTnLst>
                        <p:par>
                          <p:cTn id="2189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0" dur="1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1" dur="4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2" dur="4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9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0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1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6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7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8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9" fill="hold">
                      <p:stCondLst>
                        <p:cond delay="indefinite"/>
                      </p:stCondLst>
                      <p:childTnLst>
                        <p:par>
                          <p:cTn id="2230" fill="hold">
                            <p:stCondLst>
                              <p:cond delay="0"/>
                            </p:stCondLst>
                            <p:childTnLst>
                              <p:par>
                                <p:cTn id="2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33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4" fill="hold">
                      <p:stCondLst>
                        <p:cond delay="indefinite"/>
                      </p:stCondLst>
                      <p:childTnLst>
                        <p:par>
                          <p:cTn id="2235" fill="hold">
                            <p:stCondLst>
                              <p:cond delay="0"/>
                            </p:stCondLst>
                            <p:childTnLst>
                              <p:par>
                                <p:cTn id="2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8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9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0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1" fill="hold">
                      <p:stCondLst>
                        <p:cond delay="indefinite"/>
                      </p:stCondLst>
                      <p:childTnLst>
                        <p:par>
                          <p:cTn id="2242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5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6" fill="hold">
                      <p:stCondLst>
                        <p:cond delay="indefinite"/>
                      </p:stCondLst>
                      <p:childTnLst>
                        <p:par>
                          <p:cTn id="2247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0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2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3" fill="hold">
                      <p:stCondLst>
                        <p:cond delay="indefinite"/>
                      </p:stCondLst>
                      <p:childTnLst>
                        <p:par>
                          <p:cTn id="2254" fill="hold">
                            <p:stCondLst>
                              <p:cond delay="0"/>
                            </p:stCondLst>
                            <p:childTnLst>
                              <p:par>
                                <p:cTn id="2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7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8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9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0" fill="hold">
                      <p:stCondLst>
                        <p:cond delay="indefinite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3" fill="hold">
                      <p:stCondLst>
                        <p:cond delay="indefinite"/>
                      </p:stCondLst>
                      <p:childTnLst>
                        <p:par>
                          <p:cTn id="2274" fill="hold">
                            <p:stCondLst>
                              <p:cond delay="0"/>
                            </p:stCondLst>
                            <p:childTnLst>
                              <p:par>
                                <p:cTn id="2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7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8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9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5" fill="hold">
                      <p:stCondLst>
                        <p:cond delay="indefinite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9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0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1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ed examples – Inverse Propor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95280" y="836640"/>
            <a:ext cx="3745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nings, W vari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rectly as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dicates, S. Giv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W = 800 when S =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formula f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W when S = 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788000" y="836640"/>
            <a:ext cx="41767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varies inversely as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 of d, Given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10 when d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formula for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F when d = 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643280" y="1628640"/>
            <a:ext cx="0" cy="522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835280" y="2852640"/>
            <a:ext cx="151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 baseline="30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836720" y="3319560"/>
            <a:ext cx="151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 = </a:t>
            </a:r>
            <a:r>
              <a:rPr b="0" lang="en-US" sz="2000" spc="-1" strike="noStrike" baseline="30000">
                <a:solidFill>
                  <a:srgbClr val="333399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826920" y="3789360"/>
            <a:ext cx="251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ub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800 = </a:t>
            </a:r>
            <a:r>
              <a:rPr b="0" lang="en-US" sz="2000" spc="-1" strike="noStrike" baseline="30000">
                <a:solidFill>
                  <a:srgbClr val="333399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619280" y="429264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k = 800 x 9 = 7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692360" y="4894200"/>
            <a:ext cx="1368360" cy="44064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W = </a:t>
            </a:r>
            <a:r>
              <a:rPr b="0" lang="en-US" sz="2000" spc="-1" strike="noStrike" baseline="30000">
                <a:solidFill>
                  <a:srgbClr val="009900"/>
                </a:solidFill>
                <a:latin typeface="Arial"/>
              </a:rPr>
              <a:t>7200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692360" y="5516640"/>
            <a:ext cx="151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 = </a:t>
            </a:r>
            <a:r>
              <a:rPr b="0" lang="en-US" sz="1800" spc="-1" strike="noStrike" baseline="30000">
                <a:solidFill>
                  <a:srgbClr val="333399"/>
                </a:solidFill>
                <a:latin typeface="Arial"/>
              </a:rPr>
              <a:t>7200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692360" y="59421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W = 3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6372360" y="2708280"/>
                <a:ext cx="8078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6372360" y="3284640"/>
                <a:ext cx="76968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6084720" y="3789360"/>
                <a:ext cx="13622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6018120" y="4437000"/>
                <a:ext cx="163836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986440" y="5373720"/>
                <a:ext cx="14986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95" name=""/>
          <p:cNvGrpSpPr/>
          <p:nvPr/>
        </p:nvGrpSpPr>
        <p:grpSpPr>
          <a:xfrm>
            <a:off x="6195960" y="4797360"/>
            <a:ext cx="1366920" cy="611280"/>
            <a:chOff x="6195960" y="4797360"/>
            <a:chExt cx="1366920" cy="611280"/>
          </a:xfrm>
        </p:grpSpPr>
        <mc:AlternateContent>
          <mc:Choice xmlns:a14="http://schemas.microsoft.com/office/drawing/2010/main" Requires="a14">
            <p:sp>
              <p:nvSpPr>
                <p:cNvPr id="596" name=""/>
                <p:cNvSpPr txBox="1"/>
                <p:nvPr/>
              </p:nvSpPr>
              <p:spPr>
                <a:xfrm>
                  <a:off x="6323040" y="4797360"/>
                  <a:ext cx="86832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60</m:t>
                          </m:r>
                        </m:num>
                        <m:den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97" name=""/>
            <p:cNvSpPr/>
            <p:nvPr/>
          </p:nvSpPr>
          <p:spPr>
            <a:xfrm>
              <a:off x="6195960" y="4822920"/>
              <a:ext cx="1366920" cy="57600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6516720" y="6105600"/>
            <a:ext cx="719280" cy="276120"/>
            <a:chOff x="6516720" y="6105600"/>
            <a:chExt cx="719280" cy="276120"/>
          </a:xfrm>
        </p:grpSpPr>
        <mc:AlternateContent>
          <mc:Choice xmlns:a14="http://schemas.microsoft.com/office/drawing/2010/main" Requires="a14">
            <p:sp>
              <p:nvSpPr>
                <p:cNvPr id="599" name=""/>
                <p:cNvSpPr txBox="1"/>
                <p:nvPr/>
              </p:nvSpPr>
              <p:spPr>
                <a:xfrm>
                  <a:off x="6516720" y="6105600"/>
                  <a:ext cx="70956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00" name=""/>
            <p:cNvSpPr/>
            <p:nvPr/>
          </p:nvSpPr>
          <p:spPr>
            <a:xfrm>
              <a:off x="6516720" y="638172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2" dur="indefinite" restart="never" nodeType="tmRoot">
          <p:childTnLst>
            <p:seq>
              <p:cTn id="2293" dur="indefinite" nodeType="mainSeq">
                <p:childTnLst>
                  <p:par>
                    <p:cTn id="2294" fill="hold">
                      <p:stCondLst>
                        <p:cond delay="indefinite"/>
                      </p:stCondLst>
                      <p:childTnLst>
                        <p:par>
                          <p:cTn id="2295" fill="hold">
                            <p:stCondLst>
                              <p:cond delay="0"/>
                            </p:stCondLst>
                            <p:childTnLst>
                              <p:par>
                                <p:cTn id="2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8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9" fill="hold">
                      <p:stCondLst>
                        <p:cond delay="indefinite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3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4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9" dur="77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20" dur="770" fill="hold"/>
                                        <p:tgtEl>
                                          <p:spTgt spid="5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22" dur="77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4" dur="77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0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5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6" fill="hold">
                      <p:stCondLst>
                        <p:cond delay="indefinite"/>
                      </p:stCondLst>
                      <p:childTnLst>
                        <p:par>
                          <p:cTn id="2337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0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1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2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3" fill="hold">
                      <p:stCondLst>
                        <p:cond delay="indefinite"/>
                      </p:stCondLst>
                      <p:childTnLst>
                        <p:par>
                          <p:cTn id="2344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9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fill="hold">
                      <p:stCondLst>
                        <p:cond delay="indefinite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4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5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6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1" fill="hold">
                      <p:stCondLst>
                        <p:cond delay="indefinite"/>
                      </p:stCondLst>
                      <p:childTnLst>
                        <p:par>
                          <p:cTn id="2362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4" dur="1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5" dur="4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6" dur="4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9" fill="hold">
                      <p:stCondLst>
                        <p:cond delay="indefinite"/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5" fill="hold">
                      <p:stCondLst>
                        <p:cond delay="indefinite"/>
                      </p:stCondLst>
                      <p:childTnLst>
                        <p:par>
                          <p:cTn id="2386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9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ed examples – Inverse Propor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95280" y="836640"/>
            <a:ext cx="4032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, T varies indirect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the helpers, h and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, s. Given that T = 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h = 2 and s = 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formula for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 when h = 3 and s = 8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643280" y="836640"/>
            <a:ext cx="4321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g 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 varies directly as m and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versely as the square of r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iven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 = 12 when m = 3 and r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nd a formula for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nd E when m = 100 and r = 5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643280" y="1628640"/>
            <a:ext cx="0" cy="522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835280" y="2852640"/>
            <a:ext cx="151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 baseline="30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836720" y="3319560"/>
            <a:ext cx="151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T = </a:t>
            </a:r>
            <a:r>
              <a:rPr b="0" lang="en-GB" sz="2000" spc="-1" strike="noStrike" baseline="30000">
                <a:solidFill>
                  <a:srgbClr val="333399"/>
                </a:solidFill>
                <a:latin typeface="Arial"/>
              </a:rPr>
              <a:t>k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GB" sz="2000" spc="-1" strike="noStrike" baseline="-25000">
                <a:solidFill>
                  <a:srgbClr val="333399"/>
                </a:solidFill>
                <a:latin typeface="Arial"/>
              </a:rPr>
              <a:t>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826920" y="3789360"/>
            <a:ext cx="251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ub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4 = </a:t>
            </a:r>
            <a:r>
              <a:rPr b="0" lang="en-US" sz="2000" spc="-1" strike="noStrike" baseline="30000">
                <a:solidFill>
                  <a:srgbClr val="333399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2x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619280" y="42926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k = 4 x 12 = 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692360" y="4894200"/>
            <a:ext cx="1368360" cy="44064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T = </a:t>
            </a:r>
            <a:r>
              <a:rPr b="0" lang="en-US" sz="2000" spc="-1" strike="noStrike" baseline="30000">
                <a:solidFill>
                  <a:srgbClr val="009900"/>
                </a:solidFill>
                <a:latin typeface="Arial"/>
              </a:rPr>
              <a:t>48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Arial"/>
              </a:rPr>
              <a:t>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692360" y="5516640"/>
            <a:ext cx="2158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 = </a:t>
            </a:r>
            <a:r>
              <a:rPr b="0" lang="en-US" sz="1800" spc="-1" strike="noStrike" baseline="30000">
                <a:solidFill>
                  <a:srgbClr val="333399"/>
                </a:solidFill>
                <a:latin typeface="Arial"/>
              </a:rPr>
              <a:t>48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3x8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 </a:t>
            </a:r>
            <a:r>
              <a:rPr b="0" lang="en-US" sz="1800" spc="-1" strike="noStrike" baseline="30000">
                <a:solidFill>
                  <a:srgbClr val="333399"/>
                </a:solidFill>
                <a:latin typeface="Arial"/>
              </a:rPr>
              <a:t>48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692360" y="59421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T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5940360" y="2889360"/>
                <a:ext cx="74952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7308720" y="3394080"/>
                <a:ext cx="7905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5292720" y="3897360"/>
                <a:ext cx="13827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7091280" y="4334040"/>
                <a:ext cx="16574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6467400" y="5554800"/>
                <a:ext cx="220824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4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4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17" name=""/>
          <p:cNvGrpSpPr/>
          <p:nvPr/>
        </p:nvGrpSpPr>
        <p:grpSpPr>
          <a:xfrm>
            <a:off x="5580000" y="4869000"/>
            <a:ext cx="1152720" cy="647640"/>
            <a:chOff x="5580000" y="4869000"/>
            <a:chExt cx="1152720" cy="647640"/>
          </a:xfrm>
        </p:grpSpPr>
        <mc:AlternateContent>
          <mc:Choice xmlns:a14="http://schemas.microsoft.com/office/drawing/2010/main" Requires="a14">
            <p:sp>
              <p:nvSpPr>
                <p:cNvPr id="618" name=""/>
                <p:cNvSpPr txBox="1"/>
                <p:nvPr/>
              </p:nvSpPr>
              <p:spPr>
                <a:xfrm>
                  <a:off x="5580000" y="4905360"/>
                  <a:ext cx="102708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44</m:t>
                          </m:r>
                          <m:r>
                            <m:t xml:space="preserve">m</m:t>
                          </m:r>
                        </m:num>
                        <m:den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19" name=""/>
            <p:cNvSpPr/>
            <p:nvPr/>
          </p:nvSpPr>
          <p:spPr>
            <a:xfrm>
              <a:off x="5580000" y="4869000"/>
              <a:ext cx="1152720" cy="64764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5724360" y="6237360"/>
            <a:ext cx="827280" cy="276120"/>
            <a:chOff x="5724360" y="6237360"/>
            <a:chExt cx="827280" cy="276120"/>
          </a:xfrm>
        </p:grpSpPr>
        <mc:AlternateContent>
          <mc:Choice xmlns:a14="http://schemas.microsoft.com/office/drawing/2010/main" Requires="a14">
            <p:sp>
              <p:nvSpPr>
                <p:cNvPr id="621" name=""/>
                <p:cNvSpPr txBox="1"/>
                <p:nvPr/>
              </p:nvSpPr>
              <p:spPr>
                <a:xfrm>
                  <a:off x="5724360" y="6237360"/>
                  <a:ext cx="82728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57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22" name=""/>
            <p:cNvSpPr/>
            <p:nvPr/>
          </p:nvSpPr>
          <p:spPr>
            <a:xfrm flipH="1">
              <a:off x="5737320" y="648648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0" dur="indefinite" restart="never" nodeType="tmRoot">
          <p:childTnLst>
            <p:seq>
              <p:cTn id="2391" dur="indefinite" nodeType="mainSeq">
                <p:childTnLst>
                  <p:par>
                    <p:cTn id="2392" fill="hold">
                      <p:stCondLst>
                        <p:cond delay="indefinite"/>
                      </p:stCondLst>
                      <p:childTnLst>
                        <p:par>
                          <p:cTn id="2393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6" dur="15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15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fill="hold">
                      <p:stCondLst>
                        <p:cond delay="indefinite"/>
                      </p:stCondLst>
                      <p:childTnLst>
                        <p:par>
                          <p:cTn id="2399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2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3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5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6" fill="hold">
                      <p:stCondLst>
                        <p:cond delay="indefinite"/>
                      </p:stCondLst>
                      <p:childTnLst>
                        <p:par>
                          <p:cTn id="2407" fill="hold">
                            <p:stCondLst>
                              <p:cond delay="0"/>
                            </p:stCondLst>
                            <p:childTnLst>
                              <p:par>
                                <p:cTn id="24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0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1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2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3" fill="hold">
                      <p:stCondLst>
                        <p:cond delay="indefinite"/>
                      </p:stCondLst>
                      <p:childTnLst>
                        <p:par>
                          <p:cTn id="2414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8" fill="hold">
                      <p:stCondLst>
                        <p:cond delay="indefinite"/>
                      </p:stCondLst>
                      <p:childTnLst>
                        <p:par>
                          <p:cTn id="2419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4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5" fill="hold">
                      <p:stCondLst>
                        <p:cond delay="indefinite"/>
                      </p:stCondLst>
                      <p:childTnLst>
                        <p:par>
                          <p:cTn id="2426" fill="hold">
                            <p:stCondLst>
                              <p:cond delay="0"/>
                            </p:stCondLst>
                            <p:childTnLst>
                              <p:par>
                                <p:cTn id="2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9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0" fill="hold">
                      <p:stCondLst>
                        <p:cond delay="indefinite"/>
                      </p:stCondLst>
                      <p:childTnLst>
                        <p:par>
                          <p:cTn id="2431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6" fill="hold">
                      <p:stCondLst>
                        <p:cond delay="indefinite"/>
                      </p:stCondLst>
                      <p:childTnLst>
                        <p:par>
                          <p:cTn id="2437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2" fill="hold">
                      <p:stCondLst>
                        <p:cond delay="indefinite"/>
                      </p:stCondLst>
                      <p:childTnLst>
                        <p:par>
                          <p:cTn id="2453" fill="hold">
                            <p:stCondLst>
                              <p:cond delay="0"/>
                            </p:stCondLst>
                            <p:childTnLst>
                              <p:par>
                                <p:cTn id="2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6" dur="8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7" dur="8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8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9" dur="8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6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7" dur="2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8" dur="2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9" fill="hold">
                      <p:stCondLst>
                        <p:cond delay="indefinite"/>
                      </p:stCondLst>
                      <p:childTnLst>
                        <p:par>
                          <p:cTn id="2470" fill="hold">
                            <p:stCondLst>
                              <p:cond delay="0"/>
                            </p:stCondLst>
                            <p:childTnLst>
                              <p:par>
                                <p:cTn id="24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6" fill="hold">
                      <p:stCondLst>
                        <p:cond delay="indefinite"/>
                      </p:stCondLst>
                      <p:childTnLst>
                        <p:par>
                          <p:cTn id="2477" fill="hold">
                            <p:stCondLst>
                              <p:cond delay="0"/>
                            </p:stCondLst>
                            <p:childTnLst>
                              <p:par>
                                <p:cTn id="24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82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ked examples – Joint Var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95280" y="836640"/>
            <a:ext cx="4248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, C varies directly as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used, E and inverse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ulation, I. Given that C = 2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E = 60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= 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 Find a formula for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 Find C when E = 40 and I = 25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643280" y="836640"/>
            <a:ext cx="43214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varies directly as m and 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rsely as the square of r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General formula for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ppens to E when m 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lved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ppens to E when r 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bl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643280" y="1628640"/>
            <a:ext cx="0" cy="522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835280" y="2852640"/>
            <a:ext cx="151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 baseline="30000">
                <a:solidFill>
                  <a:srgbClr val="333399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836720" y="3319560"/>
            <a:ext cx="151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C = </a:t>
            </a:r>
            <a:r>
              <a:rPr b="0" lang="en-GB" sz="2000" spc="-1" strike="noStrike" baseline="30000">
                <a:solidFill>
                  <a:srgbClr val="333399"/>
                </a:solidFill>
                <a:latin typeface="Arial"/>
              </a:rPr>
              <a:t>kE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GB" sz="20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26920" y="3789360"/>
            <a:ext cx="251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ub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20 = </a:t>
            </a:r>
            <a:r>
              <a:rPr b="0" lang="en-US" sz="2000" spc="-1" strike="noStrike" baseline="30000">
                <a:solidFill>
                  <a:srgbClr val="333399"/>
                </a:solidFill>
                <a:latin typeface="Arial"/>
              </a:rPr>
              <a:t>60k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619280" y="429264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k = 15 x 20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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60 =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692360" y="4894200"/>
            <a:ext cx="1368360" cy="44064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C = </a:t>
            </a:r>
            <a:r>
              <a:rPr b="0" lang="en-US" sz="2000" spc="-1" strike="noStrike" baseline="30000">
                <a:solidFill>
                  <a:srgbClr val="009900"/>
                </a:solidFill>
                <a:latin typeface="Arial"/>
              </a:rPr>
              <a:t>5E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692360" y="5516640"/>
            <a:ext cx="2158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 = </a:t>
            </a:r>
            <a:r>
              <a:rPr b="0" lang="en-US" sz="1800" spc="-1" strike="noStrike" baseline="30000">
                <a:solidFill>
                  <a:srgbClr val="333399"/>
                </a:solidFill>
                <a:latin typeface="Arial"/>
              </a:rPr>
              <a:t>5x40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25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692360" y="59421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C =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4859280" y="3681360"/>
                <a:ext cx="10350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∝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6581880" y="3657600"/>
                <a:ext cx="11588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mn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4859280" y="4595760"/>
                <a:ext cx="299736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m</m:t>
                            </m:r>
                          </m:e>
                        </m:d>
                        <m:r>
                          <m:t xml:space="preserve">n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kmn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7" name=""/>
          <p:cNvSpPr/>
          <p:nvPr/>
        </p:nvSpPr>
        <p:spPr>
          <a:xfrm>
            <a:off x="7885080" y="47912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 ha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4788000" y="5349960"/>
                <a:ext cx="209052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mn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mn</m:t>
                        </m:r>
                      </m:num>
                      <m:den>
                        <m:r>
                          <m:t xml:space="preserve">9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9" name=""/>
          <p:cNvSpPr/>
          <p:nvPr/>
        </p:nvSpPr>
        <p:spPr>
          <a:xfrm>
            <a:off x="7093080" y="55101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 divided by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093080" y="60148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 ‘ninthe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3" dur="indefinite" restart="never" nodeType="tmRoot">
          <p:childTnLst>
            <p:seq>
              <p:cTn id="2484" dur="indefinite" nodeType="mainSeq">
                <p:childTnLst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9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0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1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6" dur="8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7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8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9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2" fill="hold">
                      <p:stCondLst>
                        <p:cond delay="indefinite"/>
                      </p:stCondLst>
                      <p:childTnLst>
                        <p:par>
                          <p:cTn id="2503" fill="hold">
                            <p:stCondLst>
                              <p:cond delay="0"/>
                            </p:stCondLst>
                            <p:childTnLst>
                              <p:par>
                                <p:cTn id="25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6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7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8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3" dur="8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4" dur="8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5" dur="8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6" dur="8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fill="hold">
                      <p:stCondLst>
                        <p:cond delay="indefinite"/>
                      </p:stCondLst>
                      <p:childTnLst>
                        <p:par>
                          <p:cTn id="2520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3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4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5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6" fill="hold">
                      <p:stCondLst>
                        <p:cond delay="indefinite"/>
                      </p:stCondLst>
                      <p:childTnLst>
                        <p:par>
                          <p:cTn id="2527" fill="hold">
                            <p:stCondLst>
                              <p:cond delay="0"/>
                            </p:stCondLst>
                            <p:childTnLst>
                              <p:par>
                                <p:cTn id="25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3" fill="hold">
                      <p:stCondLst>
                        <p:cond delay="indefinite"/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537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8" fill="hold">
                      <p:stCondLst>
                        <p:cond delay="indefinite"/>
                      </p:stCondLst>
                      <p:childTnLst>
                        <p:par>
                          <p:cTn id="2539" fill="hold">
                            <p:stCondLst>
                              <p:cond delay="0"/>
                            </p:stCondLst>
                            <p:childTnLst>
                              <p:par>
                                <p:cTn id="25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2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3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4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fill="hold">
                      <p:stCondLst>
                        <p:cond delay="indefinite"/>
                      </p:stCondLst>
                      <p:childTnLst>
                        <p:par>
                          <p:cTn id="2546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9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0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1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2" fill="hold">
                      <p:stCondLst>
                        <p:cond delay="indefinite"/>
                      </p:stCondLst>
                      <p:childTnLst>
                        <p:par>
                          <p:cTn id="2553" fill="hold">
                            <p:stCondLst>
                              <p:cond delay="0"/>
                            </p:stCondLst>
                            <p:childTnLst>
                              <p:par>
                                <p:cTn id="25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6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7" fill="hold">
                      <p:stCondLst>
                        <p:cond delay="indefinite"/>
                      </p:stCondLst>
                      <p:childTnLst>
                        <p:par>
                          <p:cTn id="2558" fill="hold">
                            <p:stCondLst>
                              <p:cond delay="0"/>
                            </p:stCondLst>
                            <p:childTnLst>
                              <p:par>
                                <p:cTn id="25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6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fill="hold">
                      <p:stCondLst>
                        <p:cond delay="indefinite"/>
                      </p:stCondLst>
                      <p:childTnLst>
                        <p:par>
                          <p:cTn id="2563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fill="hold">
                      <p:stCondLst>
                        <p:cond delay="indefinite"/>
                      </p:stCondLst>
                      <p:childTnLst>
                        <p:par>
                          <p:cTn id="2568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1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2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3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4" fill="hold">
                      <p:stCondLst>
                        <p:cond delay="indefinite"/>
                      </p:stCondLst>
                      <p:childTnLst>
                        <p:par>
                          <p:cTn id="2575" fill="hold">
                            <p:stCondLst>
                              <p:cond delay="0"/>
                            </p:stCondLst>
                            <p:childTnLst>
                              <p:par>
                                <p:cTn id="25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8" dur="1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9" dur="4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0" dur="4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rtional div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95280" y="112536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g 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vide £600 in the ratio 2: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788000" y="1125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g 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vide £200 in the ratio 3: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643280" y="1628640"/>
            <a:ext cx="0" cy="522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547640" y="1700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otal of 3 sh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116000" y="2565360"/>
            <a:ext cx="287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GB" sz="18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2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÷ 3 × 600 = £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116000" y="3062160"/>
            <a:ext cx="287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333399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GB" sz="18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1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÷ 3 × 600 = £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292720" y="2565360"/>
            <a:ext cx="287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GB" sz="1800" spc="-1" strike="noStrike" baseline="-25000">
                <a:solidFill>
                  <a:srgbClr val="333399"/>
                </a:solidFill>
                <a:latin typeface="Arial"/>
              </a:rPr>
              <a:t>5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3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÷ 5 × 200 = £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292720" y="2990880"/>
            <a:ext cx="287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GB" sz="1800" spc="-1" strike="noStrike" baseline="-25000">
                <a:solidFill>
                  <a:srgbClr val="333399"/>
                </a:solidFill>
                <a:latin typeface="Arial"/>
              </a:rPr>
              <a:t>5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2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÷ 5 × 200 = £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796000" y="1700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otal of 5 sh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95280" y="407664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e £800 in the ratio 3: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076720" y="407664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e £72 in the ratio 3: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546200" y="4724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otal of 4 sh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260360" y="5294160"/>
            <a:ext cx="288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GB" sz="18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3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÷ 4 × 800 = £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258920" y="5805360"/>
            <a:ext cx="287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333399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GB" sz="18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1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÷ 4 × 800 = £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796000" y="47181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otal of 8 sh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508720" y="5229360"/>
            <a:ext cx="287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GB" sz="1800" spc="-1" strike="noStrike" baseline="-25000">
                <a:solidFill>
                  <a:srgbClr val="333399"/>
                </a:solidFill>
                <a:latin typeface="Arial"/>
              </a:rPr>
              <a:t>8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3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÷ 8 × 72 = £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508720" y="5734080"/>
            <a:ext cx="287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333399"/>
                </a:solidFill>
                <a:latin typeface="Arial"/>
              </a:rPr>
              <a:t>5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GB" sz="1800" spc="-1" strike="noStrike" baseline="-25000">
                <a:solidFill>
                  <a:srgbClr val="333399"/>
                </a:solidFill>
                <a:latin typeface="Arial"/>
              </a:rPr>
              <a:t>8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5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÷ 8 × 72 = £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3" dur="indefinite" restart="never" nodeType="tmRoot">
          <p:childTnLst>
            <p:seq>
              <p:cTn id="2584" dur="indefinite" nodeType="mainSeq">
                <p:childTnLst>
                  <p:par>
                    <p:cTn id="2585" fill="hold">
                      <p:stCondLst>
                        <p:cond delay="indefinite"/>
                      </p:stCondLst>
                      <p:childTnLst>
                        <p:par>
                          <p:cTn id="2586" fill="hold">
                            <p:stCondLst>
                              <p:cond delay="0"/>
                            </p:stCondLst>
                            <p:childTnLst>
                              <p:par>
                                <p:cTn id="25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9" dur="8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0" dur="8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1" dur="8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8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9" dur="77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00" dur="770" fill="hold"/>
                                        <p:tgtEl>
                                          <p:spTgt spid="6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02" dur="77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04" dur="77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6" fill="hold">
                      <p:stCondLst>
                        <p:cond delay="indefinite"/>
                      </p:stCondLst>
                      <p:childTnLst>
                        <p:par>
                          <p:cTn id="2607" fill="hold">
                            <p:stCondLst>
                              <p:cond delay="0"/>
                            </p:stCondLst>
                            <p:childTnLst>
                              <p:par>
                                <p:cTn id="26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2" fill="hold">
                      <p:stCondLst>
                        <p:cond delay="indefinite"/>
                      </p:stCondLst>
                      <p:childTnLst>
                        <p:par>
                          <p:cTn id="2613" fill="hold">
                            <p:stCondLst>
                              <p:cond delay="0"/>
                            </p:stCondLst>
                            <p:childTnLst>
                              <p:par>
                                <p:cTn id="26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6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7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8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9" fill="hold">
                      <p:stCondLst>
                        <p:cond delay="indefinite"/>
                      </p:stCondLst>
                      <p:childTnLst>
                        <p:par>
                          <p:cTn id="2620" fill="hold">
                            <p:stCondLst>
                              <p:cond delay="0"/>
                            </p:stCondLst>
                            <p:childTnLst>
                              <p:par>
                                <p:cTn id="26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3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4" fill="hold">
                      <p:stCondLst>
                        <p:cond delay="indefinite"/>
                      </p:stCondLst>
                      <p:childTnLst>
                        <p:par>
                          <p:cTn id="2625" fill="hold">
                            <p:stCondLst>
                              <p:cond delay="0"/>
                            </p:stCondLst>
                            <p:childTnLst>
                              <p:par>
                                <p:cTn id="26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8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9" fill="hold">
                      <p:stCondLst>
                        <p:cond delay="indefinite"/>
                      </p:stCondLst>
                      <p:childTnLst>
                        <p:par>
                          <p:cTn id="2630" fill="hold">
                            <p:stCondLst>
                              <p:cond delay="0"/>
                            </p:stCondLst>
                            <p:childTnLst>
                              <p:par>
                                <p:cTn id="26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7" fill="hold">
                      <p:stCondLst>
                        <p:cond delay="indefinite"/>
                      </p:stCondLst>
                      <p:childTnLst>
                        <p:par>
                          <p:cTn id="2638" fill="hold">
                            <p:stCondLst>
                              <p:cond delay="0"/>
                            </p:stCondLst>
                            <p:childTnLst>
                              <p:par>
                                <p:cTn id="26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6" fill="hold">
                      <p:stCondLst>
                        <p:cond delay="indefinite"/>
                      </p:stCondLst>
                      <p:childTnLst>
                        <p:par>
                          <p:cTn id="2647" fill="hold">
                            <p:stCondLst>
                              <p:cond delay="0"/>
                            </p:stCondLst>
                            <p:childTnLst>
                              <p:par>
                                <p:cTn id="26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5" fill="hold">
                      <p:stCondLst>
                        <p:cond delay="indefinite"/>
                      </p:stCondLst>
                      <p:childTnLst>
                        <p:par>
                          <p:cTn id="2656" fill="hold">
                            <p:stCondLst>
                              <p:cond delay="0"/>
                            </p:stCondLst>
                            <p:childTnLst>
                              <p:par>
                                <p:cTn id="26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9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0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1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2" fill="hold">
                      <p:stCondLst>
                        <p:cond delay="indefinite"/>
                      </p:stCondLst>
                      <p:childTnLst>
                        <p:par>
                          <p:cTn id="2663" fill="hold">
                            <p:stCondLst>
                              <p:cond delay="0"/>
                            </p:stCondLst>
                            <p:childTnLst>
                              <p:par>
                                <p:cTn id="26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0" fill="hold">
                      <p:stCondLst>
                        <p:cond delay="indefinite"/>
                      </p:stCondLst>
                      <p:childTnLst>
                        <p:par>
                          <p:cTn id="2671" fill="hold">
                            <p:stCondLst>
                              <p:cond delay="0"/>
                            </p:stCondLst>
                            <p:childTnLst>
                              <p:par>
                                <p:cTn id="26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4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5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6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2054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43280" y="20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757520" y="1913040"/>
                <a:ext cx="101412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c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6397560" y="1895400"/>
                <a:ext cx="10540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541520" y="3038400"/>
                <a:ext cx="12445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aabbbbc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792440" y="3903840"/>
                <a:ext cx="6825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99040" y="2997360"/>
                <a:ext cx="150660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496200" y="3903840"/>
                <a:ext cx="6588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2054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3280" y="20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763640" y="1832040"/>
                <a:ext cx="14400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397560" y="1776240"/>
                <a:ext cx="11988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424160" y="3014640"/>
                <a:ext cx="147924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803240" y="3927600"/>
                <a:ext cx="6588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210360" y="2973240"/>
                <a:ext cx="10825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978520" y="3952800"/>
                <a:ext cx="16938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515280" y="5111640"/>
                <a:ext cx="61092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ing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2054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3280" y="20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692360" y="1731960"/>
                <a:ext cx="11509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798560" y="3014640"/>
                <a:ext cx="72864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920960" y="3983040"/>
                <a:ext cx="4237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257880" y="2973240"/>
                <a:ext cx="98748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496200" y="3930480"/>
                <a:ext cx="6588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012000" y="1766880"/>
                <a:ext cx="194472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2054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43280" y="20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692360" y="1703520"/>
                <a:ext cx="129528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822320" y="3038400"/>
                <a:ext cx="6811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990800" y="4006800"/>
                <a:ext cx="2826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340320" y="3019320"/>
                <a:ext cx="8226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566040" y="3976560"/>
                <a:ext cx="5173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022800" y="1757520"/>
                <a:ext cx="20052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ing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2054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3280" y="20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692360" y="1658880"/>
                <a:ext cx="14396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611360" y="2992320"/>
                <a:ext cx="11034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779480" y="4006800"/>
                <a:ext cx="7066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848200" y="2997360"/>
                <a:ext cx="18082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365880" y="3976560"/>
                <a:ext cx="9176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915160" y="1805040"/>
                <a:ext cx="218592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916280" y="4937040"/>
                <a:ext cx="3999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500880" y="4865760"/>
                <a:ext cx="6588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4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4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2054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43280" y="20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692360" y="1712880"/>
                <a:ext cx="143964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563840" y="2992320"/>
                <a:ext cx="11984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720800" y="3984480"/>
                <a:ext cx="82404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048360" y="2997360"/>
                <a:ext cx="140796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6354720" y="3976560"/>
                <a:ext cx="9414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6100920" y="1803240"/>
                <a:ext cx="171108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÷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892160" y="4915080"/>
                <a:ext cx="44784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500880" y="4865760"/>
                <a:ext cx="6588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77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7" dur="770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9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1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9T11:44:52Z</dcterms:created>
  <dc:creator/>
  <dc:description/>
  <dc:language>en-US</dc:language>
  <cp:lastModifiedBy/>
  <dcterms:modified xsi:type="dcterms:W3CDTF">2007-03-07T14:33:05Z</dcterms:modified>
  <cp:revision>47</cp:revision>
  <dc:subject/>
  <dc:title>Algebraic Fractions</dc:title>
</cp:coreProperties>
</file>